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1.wmf" ContentType="image/x-wmf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07DC-ED8E-43B4-8E58-2B269EDB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9E98-0865-490E-AB2D-ACC69B3D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F418-AB1F-4B36-991B-05548EC5A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3D2D-549A-4D5D-BCBE-2F0C15B87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857C-B3F9-455C-BAD3-783013BD6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84E9-96A7-4399-98E0-A9C08F9A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E55D-240C-4ACF-BEFF-CAF52978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0C12-FE00-46CD-9618-6F7ECDD1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495F-357D-4A4A-98A7-C58CD9F8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BBD2-43B7-49B9-9686-7F232143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0813-6B84-4DA3-AF07-AC8C144E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E179-6049-4350-A3D6-80342CAD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F863-56F5-49E4-A03C-2A799EED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69F3-77AF-4216-8C40-EF373629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5F5F-1D48-4AC8-90B7-9AFA9EE8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A27D-1E8F-4FA4-8F50-E2A0170EB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B78B-28CC-4E5D-87CB-E7211448F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420B-74C9-4B9D-8AC0-F09D2718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4E12-DFC8-4521-9FCE-5F9A63F3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C96F-9147-4906-A452-56E5FB65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5FBD-243D-41FC-955F-EFFA389D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2CFF-1965-4038-9F1E-60899F34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EAE9-FCA4-49C5-A4C4-F44D1B03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0358-F941-4245-A3D7-09D2C6AF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8146-5984-4BB1-9B7D-F480F7EFE2C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FF7E-0EA0-4549-8E9E-63634E050A9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066320"/>
            <a:ext cx="868680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Notes: The Carbohydrates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nit: The Chemistry of Lif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bjective 2.01 – Compare and Contrast the structure and functions of the organic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1066320"/>
            <a:ext cx="868680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Notes: The Lipids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nit: The Chemistry of Lif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bjective 2.01 – Compare and Contrast the structure and functions of the organic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Common Name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at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Foods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il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ard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Butte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400800" y="838080"/>
            <a:ext cx="2209680" cy="3353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62120" y="2209680"/>
            <a:ext cx="2514600" cy="1524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486400" y="4343400"/>
            <a:ext cx="30481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Elements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ots of Carbon, Hydrogen and very little Oxyge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Building Block (monomer)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riglycer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429000" y="4038480"/>
            <a:ext cx="3429000" cy="6098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tty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Structure (picture)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2286000"/>
            <a:ext cx="990720" cy="411480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4114800"/>
              <a:gd name="textAreaBottom" fmla="*/ 4066560 h 4114800"/>
            </a:gdLst>
            <a:ahLst/>
            <a:rect l="textAreaLeft" t="textAreaTop" r="textAreaRight" b="textAreaBottom"/>
            <a:pathLst>
              <a:path w="21600" h="89687">
                <a:moveTo>
                  <a:pt x="3600" y="0"/>
                </a:moveTo>
                <a:arcTo wR="3600" hR="3600" stAng="16200000" swAng="-5400000"/>
                <a:lnTo>
                  <a:pt x="0" y="86087"/>
                </a:lnTo>
                <a:arcTo wR="3600" hR="3600" stAng="10800000" swAng="-5400000"/>
                <a:lnTo>
                  <a:pt x="18000" y="896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LYCE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29000" y="2362320"/>
            <a:ext cx="3429000" cy="6094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tty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5638680"/>
            <a:ext cx="3429000" cy="6098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tty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676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iglyce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Examples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1. Saturated Fats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(very unhealthy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2. Monounsaturated Fats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(better for your health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3. Polyunsaturated Fats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(best for your health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Uses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tored long term energy for our cell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Insulation to keep us war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rotective Covering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tructure of Cell Membran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Testing Procedure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686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Brown Paper Towel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– leaves an oily mark behind after dry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1066320"/>
            <a:ext cx="868680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Notes: The Proteins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nit: The Chemistry of Lif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bjective 2.01 – Compare and Contrast the structure and functions of the organic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Common Name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ugar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tarch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3124080"/>
            <a:ext cx="266688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Foods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Me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Bean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Nut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gg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791320" y="457200"/>
            <a:ext cx="2898720" cy="2117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09480" y="2057400"/>
            <a:ext cx="2667240" cy="22096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72200" y="3429000"/>
            <a:ext cx="2514600" cy="2017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990720" y="4495680"/>
            <a:ext cx="236196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Elements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arbon, Hydrogen, Oxygen and Nitroge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Building Block (monomer)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mino Acid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Structure (picture)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5943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Examples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tructure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Keratin, Collage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ransport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Hemoglobin (red blood cells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nzymes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atal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ase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, Lip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ase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, Sucr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as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Hormones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nsulin, Testosterone, Estroge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Uses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915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ructure of your bod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nzymes to speed up chemical reac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ransport and Recognition of cel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vement of musc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ion between cel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emical Hormon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Testing Procedure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686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Biuret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– solution changes from Blue to Purple in presence of protei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1066320"/>
            <a:ext cx="868680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Notes: The Nucleic Acids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nit: The Chemistry of Lif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bjective 2.01 – Compare and Contrast the structure and functions of the organic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Elements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arbon, Hydrogen, Oxygen, Nitrogen, and Phosphoru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Building Block (monomer)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Nucleot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Foods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ble Suga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andy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otato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ast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Bread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629400" y="228600"/>
            <a:ext cx="2514600" cy="2743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669000" y="4811760"/>
            <a:ext cx="2475000" cy="2046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09480" y="1828800"/>
            <a:ext cx="2133720" cy="1531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533520" y="3916440"/>
            <a:ext cx="257004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Structure (picture)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105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Examples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NA = deoxyribonucleic acid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NA = ribonucleic acid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TP = adenosine triphosphat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486400" y="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Uses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enetic code to create all of the proteins (traits) of your bod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aramond"/>
              </a:rPr>
              <a:t>Organic Compound Results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anu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teins and Lipi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tato Chip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pids and Star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un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te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dy Ca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osaccharid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es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pids, Protein and Star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ble Suga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none – disaccharid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Elements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arbon, Hydrogen and Oxyge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lways in a 1:2:1 Ratio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x: 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Verdana"/>
              </a:rPr>
              <a:t>12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Building Block (monomer)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Monosacchar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terally means 1 suga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Structure (picture)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2743200"/>
            <a:ext cx="2743200" cy="2286000"/>
          </a:xfrm>
          <a:prstGeom prst="hexagon">
            <a:avLst>
              <a:gd name="adj" fmla="val 30000"/>
              <a:gd name="vf" fmla="val 11547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35053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638680" y="2514600"/>
            <a:ext cx="2895840" cy="40384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248520" y="4952880"/>
            <a:ext cx="160020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Examples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68680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. Monosaccharides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luc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ose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, Fruct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ose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, Lact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os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. Disaccharides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ucr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ose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(table sugar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3. Polysaccharides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tarch, Cellul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ose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, Glycoge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Uses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irst source of energy for our cell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248520" y="3429000"/>
            <a:ext cx="220968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Testing Procedure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686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Benedicts solution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– tests for small sugars by changing from blue to brick red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Iodine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– tests for large starches by changing from brown to dark purpl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6:33:52Z</dcterms:created>
  <dc:creator>teacher</dc:creator>
  <dc:description/>
  <dc:language>en-US</dc:language>
  <cp:lastModifiedBy>teacher</cp:lastModifiedBy>
  <dcterms:modified xsi:type="dcterms:W3CDTF">2009-02-11T22:21:40Z</dcterms:modified>
  <cp:revision>11</cp:revision>
  <dc:subject/>
  <dc:title>Notes: The Carbohydrates</dc:title>
</cp:coreProperties>
</file>